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3D0-02A9-4CBC-9095-37D705F8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3A1-22C1-4264-B96E-180C2A6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D7A-D693-473C-B9D1-E3BFB6BB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7F8-6709-4358-84FC-127C1C3C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DBE-0893-4410-B40F-FDD45E21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654-53D0-44B5-8A06-293A2C4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3F7-2BB0-42AC-8026-825B2EFE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085-F152-4E69-8904-07833834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FBD-6F98-48A0-A707-92B3311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21C-B240-4678-A5AC-33F3A8E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E31-D332-45F0-9639-F117C30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4C2-154D-4CC5-A1EA-6ECE07E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727-B090-4425-A993-C46E98371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Graphs are a visual way to display dat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-347760" y="-189000"/>
            <a:ext cx="32497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9"/>
          <p:cNvGrpSpPr/>
          <p:nvPr/>
        </p:nvGrpSpPr>
        <p:grpSpPr>
          <a:xfrm>
            <a:off x="152280" y="1828800"/>
            <a:ext cx="8686800" cy="4098240"/>
            <a:chOff x="152280" y="1828800"/>
            <a:chExt cx="8686800" cy="4098240"/>
          </a:xfrm>
        </p:grpSpPr>
        <p:graphicFrame>
          <p:nvGraphicFramePr>
            <p:cNvPr id="44" name="Object 2"/>
            <p:cNvGraphicFramePr/>
            <p:nvPr/>
          </p:nvGraphicFramePr>
          <p:xfrm>
            <a:off x="3260880" y="1933560"/>
            <a:ext cx="5578200" cy="3789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60880" y="1933560"/>
                      <a:ext cx="5578200" cy="37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" name="TextBox 8"/>
            <p:cNvGrpSpPr/>
            <p:nvPr/>
          </p:nvGrpSpPr>
          <p:grpSpPr>
            <a:xfrm>
              <a:off x="152280" y="1828800"/>
              <a:ext cx="3308040" cy="4098240"/>
              <a:chOff x="152280" y="1828800"/>
              <a:chExt cx="3308040" cy="4098240"/>
            </a:xfrm>
          </p:grpSpPr>
          <p:pic>
            <p:nvPicPr>
              <p:cNvPr id="47" name="TextBox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280" y="1828800"/>
                <a:ext cx="3308040" cy="40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360360" y="1933560"/>
                <a:ext cx="3049200" cy="39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Bar graphs use bars to compare quantities. The height or length of the bar represents a designated number.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380880" y="1905120"/>
            <a:ext cx="8467920" cy="4588560"/>
            <a:chOff x="380880" y="1905120"/>
            <a:chExt cx="8467920" cy="4588560"/>
          </a:xfrm>
        </p:grpSpPr>
        <p:graphicFrame>
          <p:nvGraphicFramePr>
            <p:cNvPr id="50" name="Object 3"/>
            <p:cNvGraphicFramePr/>
            <p:nvPr/>
          </p:nvGraphicFramePr>
          <p:xfrm>
            <a:off x="3634560" y="2231280"/>
            <a:ext cx="5214240" cy="326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34560" y="2231280"/>
                      <a:ext cx="5214240" cy="32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" name="TextBox 10"/>
            <p:cNvGrpSpPr/>
            <p:nvPr/>
          </p:nvGrpSpPr>
          <p:grpSpPr>
            <a:xfrm>
              <a:off x="380880" y="1905120"/>
              <a:ext cx="4229280" cy="4588560"/>
              <a:chOff x="380880" y="1905120"/>
              <a:chExt cx="4229280" cy="4588560"/>
            </a:xfrm>
          </p:grpSpPr>
          <p:pic>
            <p:nvPicPr>
              <p:cNvPr id="53" name="TextBox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1905120"/>
                <a:ext cx="4229280" cy="40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586080" y="2012760"/>
                <a:ext cx="3792240" cy="44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Circle Graphs, or Pie Charts, compare parts of a whole. The circle represents the whole and is separated  into parts, which are usually expressed as percents.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" name="Group 13"/>
          <p:cNvGrpSpPr/>
          <p:nvPr/>
        </p:nvGrpSpPr>
        <p:grpSpPr>
          <a:xfrm>
            <a:off x="304920" y="1905120"/>
            <a:ext cx="8762760" cy="3813120"/>
            <a:chOff x="304920" y="1905120"/>
            <a:chExt cx="8762760" cy="3813120"/>
          </a:xfrm>
        </p:grpSpPr>
        <p:graphicFrame>
          <p:nvGraphicFramePr>
            <p:cNvPr id="56" name="Object 4"/>
            <p:cNvGraphicFramePr/>
            <p:nvPr/>
          </p:nvGraphicFramePr>
          <p:xfrm>
            <a:off x="3488760" y="1905120"/>
            <a:ext cx="5578920" cy="381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88760" y="1905120"/>
                      <a:ext cx="5578920" cy="381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" name="TextBox 12"/>
            <p:cNvGrpSpPr/>
            <p:nvPr/>
          </p:nvGrpSpPr>
          <p:grpSpPr>
            <a:xfrm>
              <a:off x="304920" y="2176200"/>
              <a:ext cx="3314520" cy="2737440"/>
              <a:chOff x="304920" y="2176200"/>
              <a:chExt cx="3314520" cy="2737440"/>
            </a:xfrm>
          </p:grpSpPr>
          <p:pic>
            <p:nvPicPr>
              <p:cNvPr id="59" name="TextBox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4920" y="2176200"/>
                <a:ext cx="3314520" cy="27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513000" y="2285640"/>
                <a:ext cx="304992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A line graph shows how sets of data change over a period of time.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xit" presetID="54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12:42Z</dcterms:created>
  <dc:creator>RRISD</dc:creator>
  <dc:description/>
  <dc:language>en-US</dc:language>
  <cp:lastModifiedBy>RRISD</cp:lastModifiedBy>
  <dcterms:modified xsi:type="dcterms:W3CDTF">2009-03-24T18:32:44Z</dcterms:modified>
  <cp:revision>17</cp:revision>
  <dc:subject/>
  <dc:title>Slide 1</dc:title>
</cp:coreProperties>
</file>